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5826-CCDF-470B-A0A8-4A925A95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F801-597E-485C-80B5-4FEAAE2F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CB68-FFFF-48A5-B26B-1F49467D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76F5-D971-463A-BBE0-AD88356F1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B51A-47C6-497F-A481-73B44AEA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0D09-D26A-46D1-84B8-8CEB1847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803B-7CE8-485F-93A6-2E050A4F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ECA5-AFCA-4381-8EBF-46AD89C2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F070-E10A-4967-9A67-EEFB3571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B48B-4202-4757-9C70-B6CC3CF2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AD60-4233-473A-9981-9D26DF4B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B6FE-2114-4F7B-BC74-C74AA1B8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54E3-805E-462A-AEA3-F40677DE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01B6-BED8-4556-BB23-129CF890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369E-4FB0-4506-94FE-E1E54404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3422-E4B6-471C-B8F4-4AB420CC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1596-0857-41D5-8F0D-7D8E40BB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A381-4C5F-4A4B-B75A-C82599FA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EAF3-0B87-445E-B09C-4AF4E24D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3CFE-6810-49F6-86CC-EB861AC6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F3B9-0C21-496D-BD6E-13F667F0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3610-B114-4ED7-BF11-39A54559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4108-DA0C-48CA-A403-E027E4A1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9921-5B31-40E7-8CB9-D88D9E62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9D12-BDFD-4DBF-A823-F1B33A221EB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3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B532-7285-4564-9621-1683E428D0F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First Fruits Giving: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ploring The Spiritual Discipline of Tith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MC900198345[1]"/>
          <p:cNvPicPr/>
          <p:nvPr/>
        </p:nvPicPr>
        <p:blipFill>
          <a:blip r:embed="rId1"/>
          <a:stretch/>
        </p:blipFill>
        <p:spPr>
          <a:xfrm>
            <a:off x="2590920" y="205740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533520" y="54100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iritual Practices Conference-------Spiritual Formation Task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 Conference Board of Laity-----October 15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2193840" y="5446800"/>
            <a:ext cx="4206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History: Development Stages of Tithing    II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sraelites were more settled as homeowners than on a pilgrima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ing Josiah (12</a:t>
            </a:r>
            <a:r>
              <a:rPr b="1" lang="en-US" sz="2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year)demanded that all local shrines be destroyed and that all offerings come to Jerusalem. (Deuteronomy 12:5-7, 1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Faithful were instructed to bring 1/10 of their increase to The Tem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History: Development Stages of Tithing    III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Temple in Jerusalem becomes the center of all religious activ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Tribe of Levi becomes the caretakers of the Temp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ople Instructed to bring their tithe to support the Temple. (Numbers 18:21, 27-2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History: Tith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ndard of Giving known as the Lord’s Tithe (Leviticus 27:3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t of Thanksgiving &amp; Worship (Deut.12:5-7,1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pecial Tithe every third year for widows &amp; orphans (Deut.14:28-2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History: NT Tith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sus Himself clearly upheld the practice of the Tith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 assumes that tithing is an accepted fac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portunity to tithe is one of God’s greatest blessin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Matthew 23:2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tithe is mentioned as still being in effe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History: NT Tith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rn all You C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ve all You C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 all You C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Tithing as a Spiritual Discip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means to receive God’s Grace in our l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s us Grow deeper in our relationship with G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r lives are transformed as we seek to draw closer to G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Tithing as a Spiritual Discip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Content Placeholder 5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02920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II. Why Tithing is Important to 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thing is a means of giving to God by covenant communities of faithful people throughout the ag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thing contributes to our Spiritual 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thing is a means of expressing your covenant relationship with God. (Duet. 14:2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Why Tithing is Importa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thing brings God’s widsom and discipline into your finances helping break the power of materialism in your lif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thing serves as a practical reminder that God blesses us abundantly with every good th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thing allows us to experience God’s care in ways that we would otherwise not experience.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I Kings 17, Prov.3:9-10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Why Tithing is Importa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thing helps maintain an eternal perspective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1 Timothy 6:18-19, Matt.6:19-21,Hebrew 6:10, 1 Samuel 30:2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hing Strengthens the ministry and stability of your church and its miss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Acts 2:42-47)4:32, II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Corinth.9:12-13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thing maintains church buildings in good repair for worship, fellowship &amp; study of God’s Word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II Chronicles 24:4-14, Kings 12: 2-16, I Cronicles 29:2-19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      </a:t>
            </a: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Tithing as a Spiritual Disciplin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roduc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acilitator---Donald Love, RH D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ticipant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MC900310274[1]"/>
          <p:cNvPicPr/>
          <p:nvPr/>
        </p:nvPicPr>
        <p:blipFill>
          <a:blip r:embed="rId1"/>
          <a:stretch/>
        </p:blipFill>
        <p:spPr>
          <a:xfrm>
            <a:off x="7467480" y="4495680"/>
            <a:ext cx="1405080" cy="18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Why Tithing is Important to 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thing provides the means to maintain the livelihood of the clergy and staff of your church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I Corinth.9:9-11,14, I Timothy 5:17-18, Phillipians 4:15-19, Galat.6:6, Luke 8:3, II Kings 4:8-10)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First Fruits Giving: Tithing</a:t>
            </a:r>
            <a:br>
              <a:rPr sz="3800"/>
            </a:b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 Experiencing the Practice    III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05884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urpose of tithing is to secure not the tithe, but the tither, not the gifts but the giver, not the possession but the posessor, not your money but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God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onymo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Tithing as a Spiritual Discip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does tithing mean to you? Share your personal experiences with tith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Christians really tith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what spirit and attitude should you tith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Experiencing the Practice of Tithing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 it should be noted that anyone who tithes should do so willingl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though God equates withholding tithes with robbing Him Malachi 3:8-10, He does not force anyone to tith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Experiencing the Practice of Tithing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8" name="Content Placeholder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7772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Experiencing the Practice of Tithing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ginners, write a gratitude list of five things you are thankful for each d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time you tithe, Thank God for the opportunity to give and the blessings in your lif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are not already tithing, begin to do so. The key is to trust God. Start gradually if you can not start with 10 %. Increase the percentage periodical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8469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Experiencing the Practice of Tithing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active stewardship committee separate from finance committe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 Biblical foundation of tithing and stewardship using Bible study, Sunday School Stewardship Moments during worship, small group studies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phasize importance of tithing as a Spiritual Discipli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Experiencing the Practice of Tithing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ebrate the time of offering as part of Worship, (Testimonies of Tith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er several means to give, Electronic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tronic Funds Trans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ine thru church webs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bit Card, Credit C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Experiencing the Practice of Tithing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Content Placeholder 4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010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Experiencing the Practice of Tithing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nking it Through” illustration of tithing found in the book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ough:  Discovering Joy Through Simplic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Generosity”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m Hamil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 u="sng">
                <a:solidFill>
                  <a:srgbClr val="006633"/>
                </a:solidFill>
                <a:uFillTx/>
                <a:latin typeface="Garamond"/>
              </a:rPr>
              <a:t>Workshop Outline: </a:t>
            </a:r>
            <a:br>
              <a:rPr sz="20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Sylfaen"/>
              </a:rPr>
              <a:t>History of Tit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Sylfaen"/>
              </a:rPr>
              <a:t>Why Tithing is Important to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Sylfaen"/>
              </a:rPr>
              <a:t>Experiencing the Pract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Sylfaen"/>
              </a:rPr>
              <a:t>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Proportional Giving Cha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0" name="Content Placeholder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772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Proportional Giving Cha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Content Placeholder 5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Tithing as a Spiritual Discipline</a:t>
            </a:r>
            <a:br>
              <a:rPr sz="3800"/>
            </a:b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Resources---------IV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ving &amp; Tithing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-----Larry Burke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ough: Discovering Joy Through Simplicity and Generosity”----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m Hamil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lebration of Discip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-----Richard Fo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“test me in this”  ----Douglas Lebla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ly B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 </a:t>
            </a: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Tithing as a Spiritual Discip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" name="Content Placeholder 2" descr=""/>
          <p:cNvPicPr/>
          <p:nvPr/>
        </p:nvPicPr>
        <p:blipFill>
          <a:blip r:embed="rId1"/>
          <a:stretch/>
        </p:blipFill>
        <p:spPr>
          <a:xfrm>
            <a:off x="1579680" y="1600200"/>
            <a:ext cx="6413400" cy="42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First Fruits Giving: Tith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Fruit Giving is really Tith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ce the beginning of Old Testament Times, the tithe was given off the to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ing a choice to give to the work of God First before consideration of other bills, expenses or oblig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First Fruits Giving: Tith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osing to give to one’s church a percentage of one’s income not because of the law, but out of humility, love and gratitude for the blessings that Almighty God provid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MC900310390[1]"/>
          <p:cNvPicPr/>
          <p:nvPr/>
        </p:nvPicPr>
        <p:blipFill>
          <a:blip r:embed="rId1"/>
          <a:stretch/>
        </p:blipFill>
        <p:spPr>
          <a:xfrm>
            <a:off x="6172200" y="3809880"/>
            <a:ext cx="15796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History of Tithing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 of the Law Given in Old Testa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thing was the means from which the Levites could survive as caretakers of the Temp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actice of tithing predates the law by hundreds of yea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raham paid tithe to Melchizede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Genesis 14:2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History of Tith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that time there was no Temple, no Priesthood, no La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thes were given out of gratitude for the blessings they had receiv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% did not originate at Mt. Sinai. But confirmed the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History: Development Stages of Tithing I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Exodus 22:29-30) Israelites instructed to bring forth the first fruits of their lab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knowledgement that all that they have comes from God. (Leviticus 27:3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00:37:07Z</dcterms:created>
  <dc:creator>Don Love</dc:creator>
  <dc:description/>
  <dc:language>en-US</dc:language>
  <cp:lastModifiedBy>Don Love</cp:lastModifiedBy>
  <dcterms:modified xsi:type="dcterms:W3CDTF">2011-10-14T04:01:56Z</dcterms:modified>
  <cp:revision>29</cp:revision>
  <dc:subject/>
  <dc:title>First Fruits Giving!</dc:title>
</cp:coreProperties>
</file>